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A3A-5E7D-44B3-A7A8-D5BDD2A8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5B7-48B4-423A-8519-CC77D9FB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6D8-729D-4993-91A3-20CF24F8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208-9FB4-4FA7-84CB-5E1B5F15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58B-A0E1-4804-B110-3964BA1B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899-A53C-429A-AA1F-3D7836E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09E-4106-43E9-A313-AA5C7C17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AE95-27EF-4EA0-82B9-B8E05CA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F9B-9819-43B7-803E-D7EE59E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33B-4FA8-4098-BA59-D41207A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3FC3-1C5D-44F4-93E6-DCD6C35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82F-41B1-4F72-AB15-7E156982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3138-EDF5-4CFE-B80F-AA82CFD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6B6-68B7-44CD-A87E-BD16D79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6587-7963-4DE4-BA07-11AEC51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2DB-2FB9-4A08-8938-C709801D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22D-9EF4-451E-B767-037582E0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E3C-43D6-461F-9623-267F2C0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758-A4E2-4C0F-A94D-911B74C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1B3-930F-4130-B5F0-047DEFC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0E7-430C-40A7-A692-8CA594A8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0F3-B0E5-4845-BC29-E903829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10C-CF16-4726-8445-4F374730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E4A-2C71-4969-A83B-810442F2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7EC0-0934-46AE-AF1D-4558076C54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7A0-8B8F-4C4B-9928-DAE152A8FD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veloping Reading Ski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aches to Learning and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ext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first stage questions to develop scann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second stage questions which include: comprehension,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third stage questions to develop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go beyond the text to encourage students to make connections between what they have read and their own experiences and to other areas of learning 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might include a discussion, a task, a writing activity, a role-play – pretty much anyth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ign a post-reading task for the languages text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lying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approach should match reading purpo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difference between a reading text used to present new grammar and vocabulary and one used to develop read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s do not need to understand every word to get the meaning of a text, but they do need understand a lot of wo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phisticated readers transfer reading skills from one language to another; less sophisticated readers may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Vocabular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kimm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for 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ann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- for particular pieces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In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closely to find out as much as poss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Ex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broadly for general interest or f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hemata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information an individual stores which can be drawn upon to understand texts (Schema The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Top dow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holistically, using prediction, schemata and genre (amongst other things) to understand the tex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Bottom u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understanding each word, sentence, paragraph so that the text is underst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ing a reading skills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on the reading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what skill(s) you are trying to 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activating learners’ schem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ember that if the text is too difficult, learners will strug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introducing top down and bottom up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skills lessons are often divided into the following s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read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ad learners in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tivate them to read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ovide a context for the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duce anxiety about th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You mig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the title/headline and ask for predictions of text 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cit what learners know about the theme/topic (brainsto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some pictures and ask the learners to guess what order they go in in the text or ask students to predict the 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ach difficult vocabul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an outline of the text or some useful information abou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going to use the text with an intermediate class to practice scanning ski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pre-reading activities would you 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ities for while reading are usually in three stages:  activities to encourage students to get an overall understanding of the text; those which encourage students to work out more detailed meanings; and those which focus on particular grammar or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stage questions might include skimming or scanning ques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stage questions might include comprehension questions, questions of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tage questions might include finding synonyms, looking at grammatical patterns, identifying discourse mark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0T12:21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